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applause.wav" ContentType="audio/x-wav"/>
  <Override PartName="/ppt/media/image12.gif" ContentType="image/gi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1.gif" ContentType="image/gi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9E9-4A31-4C92-88FE-80419555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103-47E4-441B-830E-E47F94C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207-3946-44B2-82DE-A15A25E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055-B75F-4139-B842-8413DD9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27F7-BC5D-4D6A-A360-9FA7A31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8BB1-9999-448C-BB2D-D71DBAA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275-9D27-43D1-A151-8C962FD7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1707-1FE3-4246-B199-30A5D7F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9AAB-A0AE-46C1-BE17-A740DBD5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BD5-D236-404A-AA14-CCE4C0D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84E2-DB8E-44B1-8166-5ACF845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430-561B-4CC9-A80F-1DE98F50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843-C42A-49F8-9903-76D0B35C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A9B2-443C-4174-A278-A2C590F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21D6-E78B-407A-BEBE-C50EE55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B05-2D24-400D-B778-17DE8E09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EDD3-5478-4E98-8BB4-EC721AAD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381-594C-4996-9F23-B48B8BC3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C38-A990-4A83-9B77-7AD1A79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D1B-E08F-4C78-863D-BA3CDDA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BF3-2BE4-4C6B-9E33-24C5BCB4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5E1-CA43-4B2D-BBAF-E7CB11A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2B3-28FB-4478-8962-825E3B1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D11-C8F6-4498-991C-FFC3AFD9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479-7459-4008-AAEC-38CB7183B1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A9E-4DED-4E3E-AE93-0E32162488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ttl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Definition : A person who settles  or makes a ho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Base word : sett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Inflection :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Synonym : pione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Antonym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Unicode MS"/>
              </a:rPr>
              <a:t>Syllable : set-tl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398760" cy="2587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rangler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people who ga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wrang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cowboy and gir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wrang-l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943600" y="251460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3276720" cy="244620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ronti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: A remote o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stant area beyond whi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: fronti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deserted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front-tie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59280" y="2881440"/>
            <a:ext cx="3456000" cy="224784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ione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: A person who settles in an unknow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pione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ettl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pi-o-neers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89600" y="3035160"/>
            <a:ext cx="312084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rri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Unicode MS"/>
              </a:rPr>
              <a:t>Definition : </a:t>
            </a: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A space area belonging to a person or a place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Base word : territor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Inflection : 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Synonym : propert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Antonym : unclaimed place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Arial Unicode MS"/>
              </a:rPr>
              <a:t>Syllable : ter-ri-tor-y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083200" y="1981080"/>
            <a:ext cx="2938320" cy="4114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ven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People who take part in bol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adventu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: 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dare devi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ad-ven-tur-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termin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Having or show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 determ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tro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wea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de-ter-m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627520" y="3240000"/>
            <a:ext cx="1849680" cy="159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tion :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Equipment , such as to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 :gear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suppl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gear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1819440" cy="182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pportun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A good chance  Base word : opportun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ch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 : op-por-tu-ni-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46384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u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nned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finition : skin in order to make materi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se word: tan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flection : 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nonym : prepared blo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onym: leave alo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yllable: tann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684760" y="1998720"/>
            <a:ext cx="1736640" cy="1946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933560" cy="161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9-01-30T18:30:34Z</dcterms:modified>
  <cp:revision>11</cp:revision>
  <dc:subject/>
  <dc:title>PowerPoint Presentation</dc:title>
</cp:coreProperties>
</file>